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187-2FED-4EF8-8BAF-EF58C838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7C-1513-4D34-8633-10466AD5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B15-EABF-4C6F-B7CE-4249BD0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A54-DFB1-4DD4-A138-1BEC17BC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7B4F-438D-4CA9-B23E-1E3660D6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849D-C4AA-45CE-8EDA-AF7CA697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347-C3F9-48FA-9A97-9663556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B48-26AC-438B-97BD-A16579BE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84F1-3832-48F7-B37A-8985597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2C38-5DC8-49B2-BEF9-03F967D5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E7FB-26A3-4971-968C-DA6F31D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2CD-8B08-4B74-96A5-F667F049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C029-BAEF-4CFE-B14D-662C883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D23-E920-4CA8-8666-2514870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B22-36EA-4A8A-93F1-BB7EFE6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4FA6-357C-4847-AEF5-8E0564DB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A9C-49B7-4D48-9D23-39DEAC61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018-3ABA-446F-9AB5-796CF12C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012-8790-4F37-9063-083C804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D9C-A212-46C5-A3A6-96E99EF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EBC-9AA3-4865-93E9-550A3EB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D13-63A8-4E5F-851D-89971D2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8A5-A8D1-487B-B32A-1F66BD5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136-7FF6-4AF8-AC83-53085A3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F6A9-F8A0-4095-8298-BBA0D34B73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CE32-46C6-49C4-BE86-835918614C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Pelvis and Contents</a:t>
            </a:r>
            <a:endParaRPr b="1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46440"/>
            <a:ext cx="914400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Reproductive Organ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Bones of the Pelvis 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9520" y="685800"/>
            <a:ext cx="4953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vic / hip girdl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es the lower limbs to spine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the viscera of the pelvi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s the weight of the upper body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ed hip bones (coxal bone)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 with each other anteriorly and with the sacrum posteriorly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y pelvis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coxae, sacrum and coccyx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95280" y="6248520"/>
            <a:ext cx="60962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4e4e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ab work to learn bony landmarks of pelvi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7" name="Picture 11" descr="showimage"/>
          <p:cNvPicPr/>
          <p:nvPr/>
        </p:nvPicPr>
        <p:blipFill>
          <a:blip r:embed="rId1"/>
          <a:stretch/>
        </p:blipFill>
        <p:spPr>
          <a:xfrm>
            <a:off x="76320" y="1752480"/>
            <a:ext cx="41907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Os Coxa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elvic bone during childhood: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um – NOT “ILEUM”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hium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oinf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Picture 12" descr="showimage"/>
          <p:cNvPicPr/>
          <p:nvPr/>
        </p:nvPicPr>
        <p:blipFill>
          <a:blip r:embed="rId1"/>
          <a:stretch/>
        </p:blipFill>
        <p:spPr>
          <a:xfrm>
            <a:off x="304920" y="1143000"/>
            <a:ext cx="373356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16" descr="showimage"/>
          <p:cNvPicPr/>
          <p:nvPr/>
        </p:nvPicPr>
        <p:blipFill>
          <a:blip r:embed="rId2"/>
          <a:stretch/>
        </p:blipFill>
        <p:spPr>
          <a:xfrm>
            <a:off x="5181480" y="4495680"/>
            <a:ext cx="2853000" cy="21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18" descr="showimage"/>
          <p:cNvPicPr/>
          <p:nvPr/>
        </p:nvPicPr>
        <p:blipFill>
          <a:blip r:embed="rId3"/>
          <a:stretch/>
        </p:blipFill>
        <p:spPr>
          <a:xfrm>
            <a:off x="609480" y="3809880"/>
            <a:ext cx="3353040" cy="256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True and False Pelv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67080" y="990720"/>
            <a:ext cx="4686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d by the pelvic brim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to the pelvic brim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 blade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abdominal organ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ment for muscles and ligaments to body wal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rior to the pelvic brim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contain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colon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/ovaries (females)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9" descr="showimage"/>
          <p:cNvPicPr/>
          <p:nvPr/>
        </p:nvPicPr>
        <p:blipFill>
          <a:blip r:embed="rId1"/>
          <a:stretch/>
        </p:blipFill>
        <p:spPr>
          <a:xfrm>
            <a:off x="76320" y="1752480"/>
            <a:ext cx="41907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vic Diaphragm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ator ani and coccygeus muscle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pelvic organs 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ls inferior opening of bony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ts to help release feces during defecation 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7" name="Picture 9" descr="showimage"/>
          <p:cNvPicPr/>
          <p:nvPr/>
        </p:nvPicPr>
        <p:blipFill>
          <a:blip r:embed="rId1"/>
          <a:stretch/>
        </p:blipFill>
        <p:spPr>
          <a:xfrm>
            <a:off x="380880" y="1371600"/>
            <a:ext cx="4253040" cy="41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Sexual Dimorphism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759680" y="1219320"/>
            <a:ext cx="94104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544440" y="1255680"/>
            <a:ext cx="67464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10" descr="showimage"/>
          <p:cNvPicPr/>
          <p:nvPr/>
        </p:nvPicPr>
        <p:blipFill>
          <a:blip r:embed="rId1"/>
          <a:stretch/>
        </p:blipFill>
        <p:spPr>
          <a:xfrm>
            <a:off x="380880" y="2162160"/>
            <a:ext cx="8610840" cy="367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2:38:34Z</dcterms:created>
  <dc:creator>Heather Townsend</dc:creator>
  <dc:description/>
  <cp:keywords/>
  <dc:language>en-US</dc:language>
  <cp:lastModifiedBy> </cp:lastModifiedBy>
  <dcterms:modified xsi:type="dcterms:W3CDTF">2010-08-03T18:20:18Z</dcterms:modified>
  <cp:revision>83</cp:revision>
  <dc:subject/>
  <dc:title>Lecture 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